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9520" y="209520"/>
            <a:ext cx="8724960" cy="6210360"/>
          </a:xfrm>
          <a:prstGeom prst="rect">
            <a:avLst/>
          </a:prstGeom>
          <a:gradFill rotWithShape="0">
            <a:gsLst>
              <a:gs pos="0">
                <a:srgbClr val="f00111"/>
              </a:gs>
              <a:gs pos="50000">
                <a:srgbClr val="0033cc"/>
              </a:gs>
              <a:gs pos="100000">
                <a:srgbClr val="f00111"/>
              </a:gs>
            </a:gsLst>
            <a:lin ang="2700000"/>
          </a:gradFill>
          <a:ln w="50760">
            <a:solidFill>
              <a:srgbClr val="000099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1676520" y="0"/>
            <a:ext cx="4822920" cy="51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3500" spc="-1" strike="noStrike">
                <a:solidFill>
                  <a:srgbClr val="000099"/>
                </a:solidFill>
                <a:latin typeface="Symbol"/>
                <a:ea typeface="Symbol"/>
              </a:rPr>
              <a:t>y</a:t>
            </a:r>
            <a:endParaRPr b="0" lang="en-US" sz="3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90720" y="2747880"/>
            <a:ext cx="7327800" cy="34624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8318520" cy="23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04920" y="533520"/>
            <a:ext cx="8534520" cy="96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fff00"/>
                </a:solidFill>
                <a:latin typeface="Book Antiqua"/>
                <a:ea typeface="Book Antiqua"/>
              </a:rPr>
              <a:t>Princeton Engineering Anomalies Research (PE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133720" y="1143000"/>
            <a:ext cx="6324480" cy="12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00"/>
                </a:solidFill>
                <a:latin typeface="Book Antiqua"/>
                <a:ea typeface="Book Antiqua"/>
              </a:rPr>
              <a:t>1979 von Robert G. J</a:t>
            </a:r>
            <a:r>
              <a:rPr b="1" lang="en-US" sz="1800" spc="-1" strike="noStrike">
                <a:solidFill>
                  <a:srgbClr val="ffff00"/>
                </a:solidFill>
                <a:latin typeface="Book Antiqua"/>
                <a:ea typeface="Book Antiqua"/>
              </a:rPr>
              <a:t>AHN</a:t>
            </a:r>
            <a:r>
              <a:rPr b="0" lang="en-US" sz="2400" spc="-1" strike="noStrike">
                <a:solidFill>
                  <a:srgbClr val="ffff00"/>
                </a:solidFill>
                <a:latin typeface="Book Antiqua"/>
                <a:ea typeface="Book Antiqua"/>
              </a:rPr>
              <a:t>, damals Dekan der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Book Antiqua"/>
                <a:ea typeface="Book Antiqua"/>
              </a:rPr>
              <a:t>„School of Engineering and Applied Science“ der Princeton University gegründ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977760" cy="1460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380880" y="2895480"/>
            <a:ext cx="83059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  <a:ea typeface="Book Antiqua"/>
              </a:rPr>
              <a:t>Robert G. J</a:t>
            </a:r>
            <a:r>
              <a:rPr b="1" lang="en-US" sz="3200" spc="-1" strike="noStrike">
                <a:solidFill>
                  <a:srgbClr val="ffff00"/>
                </a:solidFill>
                <a:latin typeface="Book Antiqua"/>
                <a:ea typeface="Book Antiqua"/>
              </a:rPr>
              <a:t>AHN</a:t>
            </a:r>
            <a:r>
              <a:rPr b="0" lang="en-US" sz="4000" spc="-1" strike="noStrike">
                <a:solidFill>
                  <a:srgbClr val="ffff00"/>
                </a:solidFill>
                <a:latin typeface="Book Antiqua"/>
                <a:ea typeface="Book Antiqua"/>
              </a:rPr>
              <a:t> &amp; Brenda J.D</a:t>
            </a:r>
            <a:r>
              <a:rPr b="1" lang="en-US" sz="3200" spc="-1" strike="noStrike">
                <a:solidFill>
                  <a:srgbClr val="ffff00"/>
                </a:solidFill>
                <a:latin typeface="Book Antiqua"/>
                <a:ea typeface="Book Antiqua"/>
              </a:rPr>
              <a:t>UN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80880" y="3657600"/>
            <a:ext cx="8381880" cy="93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5400" spc="-1" strike="noStrike">
                <a:solidFill>
                  <a:srgbClr val="ffff00"/>
                </a:solidFill>
                <a:latin typeface="Book Antiqua"/>
                <a:ea typeface="Book Antiqua"/>
              </a:rPr>
              <a:t>MARGINS  of  REALIT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80880" y="4724280"/>
            <a:ext cx="838188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4000" spc="-1" strike="noStrike">
                <a:solidFill>
                  <a:srgbClr val="ffff00"/>
                </a:solidFill>
                <a:latin typeface="Book Antiqua"/>
                <a:ea typeface="Book Antiqua"/>
              </a:rPr>
              <a:t>AN  DEN  RÄNDERN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Book Antiqua"/>
                <a:ea typeface="Book Antiqua"/>
              </a:rPr>
              <a:t>DES  REAL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977760" cy="1460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1371600" y="457200"/>
            <a:ext cx="7543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3600" spc="-1" strike="noStrike">
                <a:solidFill>
                  <a:srgbClr val="ffff00"/>
                </a:solidFill>
                <a:latin typeface="Book Antiqua"/>
                <a:ea typeface="Book Antiqua"/>
              </a:rPr>
              <a:t>Robert G. J</a:t>
            </a:r>
            <a:r>
              <a:rPr b="1" lang="en-US" sz="2800" spc="-1" strike="noStrike">
                <a:solidFill>
                  <a:srgbClr val="ffff00"/>
                </a:solidFill>
                <a:latin typeface="Book Antiqua"/>
                <a:ea typeface="Book Antiqua"/>
              </a:rPr>
              <a:t>AHN</a:t>
            </a:r>
            <a:r>
              <a:rPr b="0" lang="en-US" sz="3600" spc="-1" strike="noStrike">
                <a:solidFill>
                  <a:srgbClr val="ffff00"/>
                </a:solidFill>
                <a:latin typeface="Book Antiqua"/>
                <a:ea typeface="Book Antiqua"/>
              </a:rPr>
              <a:t> &amp; Brenda J.D</a:t>
            </a:r>
            <a:r>
              <a:rPr b="1" lang="en-US" sz="2800" spc="-1" strike="noStrike">
                <a:solidFill>
                  <a:srgbClr val="ffff00"/>
                </a:solidFill>
                <a:latin typeface="Book Antiqua"/>
                <a:ea typeface="Book Antiqua"/>
              </a:rPr>
              <a:t>UN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133720"/>
            <a:ext cx="4343400" cy="18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5400" spc="-1" strike="noStrike">
                <a:solidFill>
                  <a:srgbClr val="ffff00"/>
                </a:solidFill>
                <a:latin typeface="Book Antiqua"/>
                <a:ea typeface="Book Antiqua"/>
              </a:rPr>
              <a:t>MARGINS 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Book Antiqua"/>
                <a:ea typeface="Book Antiqua"/>
              </a:rPr>
              <a:t>of  REALIT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3520" y="4038480"/>
            <a:ext cx="2819520" cy="193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fff00"/>
                </a:solidFill>
                <a:latin typeface="Book Antiqua"/>
                <a:ea typeface="Book Antiqua"/>
              </a:rPr>
              <a:t>The Role of Consciousness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Book Antiqua"/>
                <a:ea typeface="Book Antiqua"/>
              </a:rPr>
              <a:t>in the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Book Antiqua"/>
                <a:ea typeface="Book Antiqua"/>
              </a:rPr>
              <a:t>Physical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562720" y="1143000"/>
            <a:ext cx="3027240" cy="49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977760" cy="1460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1371600" y="457200"/>
            <a:ext cx="7543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3600" spc="-1" strike="noStrike">
                <a:solidFill>
                  <a:srgbClr val="ffff00"/>
                </a:solidFill>
                <a:latin typeface="Book Antiqua"/>
                <a:ea typeface="Book Antiqua"/>
              </a:rPr>
              <a:t>Robert G. J</a:t>
            </a:r>
            <a:r>
              <a:rPr b="1" lang="en-US" sz="2800" spc="-1" strike="noStrike">
                <a:solidFill>
                  <a:srgbClr val="ffff00"/>
                </a:solidFill>
                <a:latin typeface="Book Antiqua"/>
                <a:ea typeface="Book Antiqua"/>
              </a:rPr>
              <a:t>AHN</a:t>
            </a:r>
            <a:r>
              <a:rPr b="0" lang="en-US" sz="3600" spc="-1" strike="noStrike">
                <a:solidFill>
                  <a:srgbClr val="ffff00"/>
                </a:solidFill>
                <a:latin typeface="Book Antiqua"/>
                <a:ea typeface="Book Antiqua"/>
              </a:rPr>
              <a:t> &amp; Brenda J.D</a:t>
            </a:r>
            <a:r>
              <a:rPr b="1" lang="en-US" sz="2800" spc="-1" strike="noStrike">
                <a:solidFill>
                  <a:srgbClr val="ffff00"/>
                </a:solidFill>
                <a:latin typeface="Book Antiqua"/>
                <a:ea typeface="Book Antiqua"/>
              </a:rPr>
              <a:t>UN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2133720"/>
            <a:ext cx="4343400" cy="20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4000" spc="-1" strike="noStrike">
                <a:solidFill>
                  <a:srgbClr val="ffff00"/>
                </a:solidFill>
                <a:latin typeface="Book Antiqua"/>
                <a:ea typeface="Book Antiqua"/>
              </a:rPr>
              <a:t>AN  DEN  RÄNDERN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Book Antiqua"/>
                <a:ea typeface="Book Antiqua"/>
              </a:rPr>
              <a:t>DES  REAL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33520" y="4038480"/>
            <a:ext cx="3200400" cy="24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fff00"/>
                </a:solidFill>
                <a:latin typeface="Book Antiqua"/>
                <a:ea typeface="Book Antiqua"/>
              </a:rPr>
              <a:t>Über die Rolle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Book Antiqua"/>
                <a:ea typeface="Book Antiqua"/>
              </a:rPr>
              <a:t>des Bewußtseins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Book Antiqua"/>
                <a:ea typeface="Book Antiqua"/>
              </a:rPr>
              <a:t>in der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Book Antiqua"/>
                <a:ea typeface="Book Antiqua"/>
              </a:rPr>
              <a:t>Physikalischen We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056200" y="1143000"/>
            <a:ext cx="3567240" cy="49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977760" cy="1460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1371600" y="457200"/>
            <a:ext cx="7543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3600" spc="-1" strike="noStrike">
                <a:solidFill>
                  <a:srgbClr val="ffff00"/>
                </a:solidFill>
                <a:latin typeface="Book Antiqua"/>
                <a:ea typeface="Book Antiqua"/>
              </a:rPr>
              <a:t>Robert G. J</a:t>
            </a:r>
            <a:r>
              <a:rPr b="1" lang="en-US" sz="2800" spc="-1" strike="noStrike">
                <a:solidFill>
                  <a:srgbClr val="ffff00"/>
                </a:solidFill>
                <a:latin typeface="Book Antiqua"/>
                <a:ea typeface="Book Antiqua"/>
              </a:rPr>
              <a:t>AHN</a:t>
            </a:r>
            <a:r>
              <a:rPr b="0" lang="en-US" sz="3600" spc="-1" strike="noStrike">
                <a:solidFill>
                  <a:srgbClr val="ffff00"/>
                </a:solidFill>
                <a:latin typeface="Book Antiqua"/>
                <a:ea typeface="Book Antiqua"/>
              </a:rPr>
              <a:t> &amp; Brenda J.D</a:t>
            </a:r>
            <a:r>
              <a:rPr b="1" lang="en-US" sz="2800" spc="-1" strike="noStrike">
                <a:solidFill>
                  <a:srgbClr val="ffff00"/>
                </a:solidFill>
                <a:latin typeface="Book Antiqua"/>
                <a:ea typeface="Book Antiqua"/>
              </a:rPr>
              <a:t>UN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133720" y="1295280"/>
            <a:ext cx="548640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4000" spc="-1" strike="noStrike">
                <a:solidFill>
                  <a:srgbClr val="ffff00"/>
                </a:solidFill>
                <a:latin typeface="Book Antiqua"/>
                <a:ea typeface="Book Antiqua"/>
              </a:rPr>
              <a:t>AN  DEN  RÄNDERN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Book Antiqua"/>
                <a:ea typeface="Book Antiqua"/>
              </a:rPr>
              <a:t>DES  REAL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2666880"/>
            <a:ext cx="8305920" cy="79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300" spc="-1" strike="noStrike">
                <a:solidFill>
                  <a:srgbClr val="ffff00"/>
                </a:solidFill>
                <a:latin typeface="Book Antiqua"/>
                <a:ea typeface="Book Antiqua"/>
              </a:rPr>
              <a:t>Über die Rolle des Bewußtseins in der Physikalischen Wel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33520" y="3200400"/>
            <a:ext cx="8077320" cy="18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00"/>
                </a:solidFill>
                <a:latin typeface="Book Antiqua"/>
                <a:ea typeface="Book Antiqua"/>
              </a:rPr>
              <a:t>Mit Beiträgen von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Book Antiqua"/>
                <a:ea typeface="Book Antiqua"/>
              </a:rPr>
              <a:t>Harald A</a:t>
            </a:r>
            <a:r>
              <a:rPr b="1" lang="en-US" sz="3200" spc="-1" strike="noStrike">
                <a:solidFill>
                  <a:srgbClr val="ffff00"/>
                </a:solidFill>
                <a:latin typeface="Book Antiqua"/>
                <a:ea typeface="Book Antiqua"/>
              </a:rPr>
              <a:t>TMANSPACHER</a:t>
            </a:r>
            <a:r>
              <a:rPr b="1" lang="en-US" sz="3600" spc="-1" strike="noStrike">
                <a:solidFill>
                  <a:srgbClr val="ffff00"/>
                </a:solidFill>
                <a:latin typeface="Book Antiqua"/>
                <a:ea typeface="Book Antiqua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Book Antiqua"/>
                <a:ea typeface="Book Antiqua"/>
              </a:rPr>
              <a:t>und Eberhard B</a:t>
            </a:r>
            <a:r>
              <a:rPr b="1" lang="en-US" sz="3200" spc="-1" strike="noStrike">
                <a:solidFill>
                  <a:srgbClr val="ffff00"/>
                </a:solidFill>
                <a:latin typeface="Book Antiqua"/>
                <a:ea typeface="Book Antiqua"/>
              </a:rPr>
              <a:t>AU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33520" y="5029200"/>
            <a:ext cx="8077320" cy="11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fff00"/>
                </a:solidFill>
                <a:latin typeface="Book Antiqua"/>
                <a:ea typeface="Book Antiqua"/>
              </a:rPr>
              <a:t>ISBN 3-86150-224-0  Ffm, 1999</a:t>
            </a:r>
            <a:br>
              <a:rPr sz="1800"/>
            </a:br>
            <a:r>
              <a:rPr b="1" lang="en-US" sz="3600" spc="-1" strike="noStrike">
                <a:solidFill>
                  <a:srgbClr val="ffff00"/>
                </a:solidFill>
                <a:latin typeface="Book Antiqua"/>
                <a:ea typeface="Book Antiqua"/>
              </a:rPr>
              <a:t>Verlag Zweitausendunde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9120" y="5014800"/>
            <a:ext cx="8105760" cy="1095480"/>
          </a:xfrm>
          <a:prstGeom prst="rect">
            <a:avLst/>
          </a:prstGeom>
          <a:noFill/>
          <a:ln w="25560">
            <a:solidFill>
              <a:srgbClr val="ffff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eter MULACZ</dc:creator>
  <dc:description/>
  <dc:language>en-US</dc:language>
  <cp:lastModifiedBy>Peter MULACZ</cp:lastModifiedBy>
  <cp:revision>0</cp:revision>
  <dc:subject/>
  <dc:title>PowerPoint-Präsentation</dc:title>
</cp:coreProperties>
</file>